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2.wmf" ContentType="image/x-wmf"/>
  <Override PartName="/ppt/media/image11.wmf" ContentType="image/x-wmf"/>
  <Override PartName="/ppt/media/image17.jpeg" ContentType="image/jpeg"/>
  <Override PartName="/ppt/media/image26.png" ContentType="image/png"/>
  <Override PartName="/ppt/media/image9.jpeg" ContentType="image/jpeg"/>
  <Override PartName="/ppt/media/image8.wmf" ContentType="image/x-wmf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20.wmf" ContentType="image/x-wmf"/>
  <Override PartName="/ppt/media/image21.jpeg" ContentType="image/jpeg"/>
  <Override PartName="/ppt/media/image16.jpeg" ContentType="image/jpeg"/>
  <Override PartName="/ppt/media/image19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2FA7-7471-4924-A3DD-64FC56754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55BA-3181-4B00-B2B1-09E9E02B5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8FEB-7319-41EA-A390-A33E20E71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7B6A-8A83-4CD2-9ABB-1AA4163C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4DDD-222C-489E-A356-D00CBCB14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314F-4FBE-492C-A08F-368AF9A2E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DFFA-DEE4-42D7-8DED-4D47FE8B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0EF8F1-2EFF-4C9B-860C-499DBF163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FE8D28-840F-44F2-B464-E39CBD22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BECE53-6603-4BCC-92C0-BD33E77B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61FA6F-4109-4B92-91AB-D593860B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FC2C95-30CA-4BB7-80A6-4B8617AE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ECF3-8649-4038-B1DB-0CEB1A8C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A3DD39-1F5F-444E-9570-C1A15610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070E68-AD78-48FF-85A4-6556EDAA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A53810-019A-4F2A-829F-7D731572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9D2CBD-0295-4FD7-AC79-332067B0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8FEFD5-ADC4-43E8-9E73-9FFA8E57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294072-FD6E-4F9E-8759-D6503E1D6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84A2C8-984B-4234-A6AD-B4637937B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943F9A-E571-4B84-B976-587776FAC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79EE8F-44EE-48E8-85C3-CC7B8C88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876D3A-7BA8-4C4B-AD91-F4AB3434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C233-4426-478B-9689-D2104855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2E4132-CE11-4AD7-AF5E-2665974A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9BE539-FF62-494E-B610-96429929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D47F8F-4727-48C2-B9D0-C4ADC84E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31A4AE-DA75-47A3-A22C-FC8C477C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49BC1A-2213-4294-A781-917DF5D6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880067-2AD5-4137-8756-CE430BFE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C853E7-7E05-4120-B4D6-4C5BDCFB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81F137-5749-4ACB-BBDE-B58C45642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3FDB42-0F93-4945-A482-B77B01218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FA87-22AD-4B86-9A42-D994583B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381A-66E1-48F0-A4B4-FC8C98B9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73FB-2911-4AA3-A504-76C4436F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218A-9FD8-42A8-A702-2F25727F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49AC-EE7D-412A-89F7-2BBA8F9A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64CB-02E4-4365-A0E9-243718961D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629400" y="64008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Páguese Usted Pri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056D-92B8-48DD-BC0D-DB6FE5D29DD7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88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Páguese Usted Prim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BA09-02A5-4951-8C4A-0B3AABF32E4D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6919920" y="6270480"/>
            <a:ext cx="22096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f497d"/>
                </a:solidFill>
                <a:latin typeface="Arial Rounded MT Bold"/>
              </a:rPr>
              <a:t>Para Promover: Conocimiento, Seguridad y Confian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51B9-0B90-4B56-A0C1-1DD056FC77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Páguese Usted Prim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E77A-3D8F-4FD1-A4AE-941D6AAD6A4F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0"/>
          <p:cNvSpPr/>
          <p:nvPr/>
        </p:nvSpPr>
        <p:spPr>
          <a:xfrm>
            <a:off x="6919920" y="6270480"/>
            <a:ext cx="22096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f497d"/>
                </a:solidFill>
                <a:latin typeface="Arial Rounded MT Bold"/>
              </a:rPr>
              <a:t>Para Promover: Conocimiento, Seguridad y Confian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2A14-24D3-4799-BA79-BD130D10F0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yfdicinsurance.gov/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Pay Yourself First title slide with FDIC Money Smart logo and module logo including a coin and piggy ban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Box 7"/>
          <p:cNvSpPr/>
          <p:nvPr/>
        </p:nvSpPr>
        <p:spPr>
          <a:xfrm>
            <a:off x="0" y="54288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águe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>
            <a:off x="228600" y="17431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Ust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9"/>
          <p:cNvSpPr/>
          <p:nvPr/>
        </p:nvSpPr>
        <p:spPr>
          <a:xfrm>
            <a:off x="457200" y="289728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imer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7160" y="384120"/>
            <a:ext cx="899136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orcentaje Anual de Rendimiento (AP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1961c"/>
                </a:solidFill>
                <a:latin typeface="Helvetica Neue"/>
                <a:ea typeface="Arial"/>
              </a:rPr>
              <a:t>AP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 el monto de interés que ganará al cabo de un año mostrado como un porcenta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cluye el efecto de la capitaliz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debería usar para comparar productos de ahorro, en lugar de la tasa de 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Regla del 7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987120"/>
            <a:ext cx="822960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fórmula que le permite calcular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tiempo que tardará en duplicar sus ahorro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: 72 ÷ 4% = 18 añ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 tasa de interés que necesita para que sus ahorros se dupliquen en un periodo de tiempo fijo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: 72 ÷ 12 = 6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quiere que su cuenta de ahorro se duplique de valor en 20 años, ¿qué tasa de interés necesitaría tener la cuent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72 ÷ 20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2803680" y="5311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e4e"/>
                </a:solidFill>
                <a:latin typeface="Arial"/>
              </a:rPr>
              <a:t>3.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pciones para ahorr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987120"/>
            <a:ext cx="8229600" cy="45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isten dos formas básicas de ahorrar diner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42480" indent="-498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brir una cuenta de ahor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segurada a nivel federal por la Federal Deposit Insurance Corporation (FDI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myfdicinsurance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42480" indent="-498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vertir su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asegurada a nivel federal y puede perder va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2" descr="Safe with cash"/>
          <p:cNvPicPr/>
          <p:nvPr/>
        </p:nvPicPr>
        <p:blipFill>
          <a:blip r:embed="rId2"/>
          <a:stretch/>
        </p:blipFill>
        <p:spPr>
          <a:xfrm>
            <a:off x="6934320" y="3429000"/>
            <a:ext cx="1614240" cy="1152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ahor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33520" y="25146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cuenta en la cua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ja su dinero durante un cierto periodo de tiempo/plaz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puede realizar depósitos o reti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ana más intereses a plazos más larg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iene que pagar si retira su dinero antes de terminar el plaz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Horizontal Scroll 3"/>
          <p:cNvSpPr/>
          <p:nvPr/>
        </p:nvSpPr>
        <p:spPr>
          <a:xfrm>
            <a:off x="530280" y="838080"/>
            <a:ext cx="7616880" cy="175284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l Mercado Mone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ificado de Depó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 Ahorro con 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Notched Right Arrow 4"/>
          <p:cNvSpPr/>
          <p:nvPr/>
        </p:nvSpPr>
        <p:spPr>
          <a:xfrm rot="19931400">
            <a:off x="26640" y="169704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ahor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3520" y="246708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cuenta qu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quiere un saldo mínimo más alto para ganar interés (generalmen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ga más intereses por saldos más al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tiene un plazo fij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 permite hacer depósitos y reti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Horizontal Scroll 3"/>
          <p:cNvSpPr/>
          <p:nvPr/>
        </p:nvSpPr>
        <p:spPr>
          <a:xfrm>
            <a:off x="533520" y="790560"/>
            <a:ext cx="7619760" cy="175248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l Mercado Mone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ificado de Depó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 Ahorro con 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Notched Right Arrow 4"/>
          <p:cNvSpPr/>
          <p:nvPr/>
        </p:nvSpPr>
        <p:spPr>
          <a:xfrm rot="19931400">
            <a:off x="26640" y="16207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ahor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520" y="246708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cuenta qu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 paga interés en su sal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uede requerir que mantenga un saldo diario míni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quiere un depósito más bajo para abrir la cu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Horizontal Scroll 3"/>
          <p:cNvSpPr/>
          <p:nvPr/>
        </p:nvSpPr>
        <p:spPr>
          <a:xfrm>
            <a:off x="533520" y="790560"/>
            <a:ext cx="7619760" cy="175248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l Mercado Mone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ificado de Depó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 Ahorro con 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Notched Right Arrow 4"/>
          <p:cNvSpPr/>
          <p:nvPr/>
        </p:nvSpPr>
        <p:spPr>
          <a:xfrm rot="19931400">
            <a:off x="26640" y="16207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uenta de Desarrollo Individual (IDA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8276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entas de contribución con un plan de ahorros por igualació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yuda a familias de bajos ingresos a ahorrar dinero y ser financieramente independie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s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apacitación labo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Educación universita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Arial"/>
                <a:ea typeface="Arial"/>
              </a:rPr>
              <a:t>Establecer una pequeña empre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omprar una ca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19" descr="Female graduate taking a picture with family"/>
          <p:cNvPicPr/>
          <p:nvPr/>
        </p:nvPicPr>
        <p:blipFill>
          <a:blip r:embed="rId1"/>
          <a:stretch/>
        </p:blipFill>
        <p:spPr>
          <a:xfrm>
            <a:off x="6248520" y="3216240"/>
            <a:ext cx="2438280" cy="1622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uenta de Transferencia Electrónica (ET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46160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enta de bajo cos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ermite a los destinatarios </a:t>
            </a: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 pagos del gobierno federal recibir sus pagos a través del depósito direc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gunas características s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 cargo mensual menor o igual a $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in saldo míni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 opción de transacciones de débito en puntos de v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l Plan de Ahorro Universitario 52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6840" y="1218960"/>
            <a:ext cx="60958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lan de ahorro para educació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3040" indent="-229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perado por una institución educacional o esta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3040" indent="-229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iseñado para ayudar a familias a reservar fondos para pagar los costos universitarios futu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ip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3040" indent="-229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lan 529 de Matrícula Prepag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3040" indent="-229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lan de Ahorro 52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2" descr="Three college students walking through a campus with books in their hands"/>
          <p:cNvPicPr/>
          <p:nvPr/>
        </p:nvPicPr>
        <p:blipFill>
          <a:blip r:embed="rId1"/>
          <a:stretch/>
        </p:blipFill>
        <p:spPr>
          <a:xfrm>
            <a:off x="6391440" y="1523880"/>
            <a:ext cx="244764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mprar una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2189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Inversión:</a:t>
            </a:r>
            <a:r>
              <a:rPr b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opción de ahorro a largo plazo para ingresos futuros o beneficios financier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3400" indent="-28548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s productos de inversión no están asegurados a nivel feder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3400" indent="-28548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be medir los riesgos y las gananci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3400" indent="-28548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ana dinero a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7640" indent="-22860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ender las inversiones por más de lo que pag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7640" indent="-22860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ibir dividendos e 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040" y="1904760"/>
            <a:ext cx="43434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rmas básic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a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ntes de inverti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6840" y="1265040"/>
            <a:ext cx="84582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horre dinero (6 meses para su protección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ble c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u ban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 asesor de buena reput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a firma de invers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gunte por las cuentas para la jubilación ofrecidas por su emplead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ga sus propias indaga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14" descr="Person inserting paper labeled &quot;401K&quot; into a piggy bank"/>
          <p:cNvPicPr/>
          <p:nvPr/>
        </p:nvPicPr>
        <p:blipFill>
          <a:blip r:embed="rId1"/>
          <a:stretch/>
        </p:blipFill>
        <p:spPr>
          <a:xfrm>
            <a:off x="6858000" y="2057400"/>
            <a:ext cx="129384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roductos de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on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ondos mutu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versiones para la jubil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c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ítulos del Tesoro de los Estados Unidos (EE.UU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2" descr="Stock charts and data"/>
          <p:cNvPicPr/>
          <p:nvPr/>
        </p:nvPicPr>
        <p:blipFill>
          <a:blip r:embed="rId1"/>
          <a:stretch/>
        </p:blipFill>
        <p:spPr>
          <a:xfrm>
            <a:off x="6259680" y="1676520"/>
            <a:ext cx="2655720" cy="1904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28600" y="2362320"/>
            <a:ext cx="86868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presta dinero a una corporación o al gobierno durante un cierto periodo de tiempo/plazo.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es propietario de parte de una compañía. Podrá recibir dividendos cuando la compañía tiene ganancia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Horizontal Scroll 8" descr=""/>
          <p:cNvPicPr/>
          <p:nvPr/>
        </p:nvPicPr>
        <p:blipFill>
          <a:blip r:embed="rId1"/>
          <a:stretch/>
        </p:blipFill>
        <p:spPr>
          <a:xfrm>
            <a:off x="506520" y="774720"/>
            <a:ext cx="8057880" cy="1657440"/>
          </a:xfrm>
          <a:prstGeom prst="rect">
            <a:avLst/>
          </a:prstGeom>
          <a:ln w="0">
            <a:noFill/>
          </a:ln>
        </p:spPr>
      </p:pic>
      <p:sp>
        <p:nvSpPr>
          <p:cNvPr id="253" name="Notched Right Arrow 9"/>
          <p:cNvSpPr/>
          <p:nvPr/>
        </p:nvSpPr>
        <p:spPr>
          <a:xfrm rot="19931400">
            <a:off x="26640" y="18493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0"/>
          <p:cNvSpPr/>
          <p:nvPr/>
        </p:nvSpPr>
        <p:spPr>
          <a:xfrm>
            <a:off x="4724280" y="1143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versiones de jub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1"/>
          <p:cNvSpPr/>
          <p:nvPr/>
        </p:nvSpPr>
        <p:spPr>
          <a:xfrm>
            <a:off x="3886200" y="16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ítulos del Tesoro de EE.U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2"/>
          <p:cNvSpPr/>
          <p:nvPr/>
        </p:nvSpPr>
        <p:spPr>
          <a:xfrm>
            <a:off x="1828800" y="1600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3"/>
          <p:cNvSpPr/>
          <p:nvPr/>
        </p:nvSpPr>
        <p:spPr>
          <a:xfrm>
            <a:off x="76212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4"/>
          <p:cNvSpPr/>
          <p:nvPr/>
        </p:nvSpPr>
        <p:spPr>
          <a:xfrm>
            <a:off x="2057400" y="1143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ondos mut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52280" y="24080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presta dinero al gobierno. Puede elegir de productos basados en su valor nominal y la fecha de vencimient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invierte dinero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urante un largo periodo de tiempo para así tener dinero para su sustento cuando deje de trabajar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Horizontal Scroll 6" descr=""/>
          <p:cNvPicPr/>
          <p:nvPr/>
        </p:nvPicPr>
        <p:blipFill>
          <a:blip r:embed="rId1"/>
          <a:stretch/>
        </p:blipFill>
        <p:spPr>
          <a:xfrm>
            <a:off x="506520" y="774720"/>
            <a:ext cx="8057880" cy="1657440"/>
          </a:xfrm>
          <a:prstGeom prst="rect">
            <a:avLst/>
          </a:prstGeom>
          <a:ln w="0">
            <a:noFill/>
          </a:ln>
        </p:spPr>
      </p:pic>
      <p:sp>
        <p:nvSpPr>
          <p:cNvPr id="262" name="Notched Right Arrow 7"/>
          <p:cNvSpPr/>
          <p:nvPr/>
        </p:nvSpPr>
        <p:spPr>
          <a:xfrm rot="19931400">
            <a:off x="26640" y="18493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8"/>
          <p:cNvSpPr/>
          <p:nvPr/>
        </p:nvSpPr>
        <p:spPr>
          <a:xfrm>
            <a:off x="4724280" y="1143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versiones de jub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9"/>
          <p:cNvSpPr/>
          <p:nvPr/>
        </p:nvSpPr>
        <p:spPr>
          <a:xfrm>
            <a:off x="3886200" y="16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ítulos del Tesoro de EE.U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0"/>
          <p:cNvSpPr/>
          <p:nvPr/>
        </p:nvSpPr>
        <p:spPr>
          <a:xfrm>
            <a:off x="1828800" y="1600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1"/>
          <p:cNvSpPr/>
          <p:nvPr/>
        </p:nvSpPr>
        <p:spPr>
          <a:xfrm>
            <a:off x="76212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2"/>
          <p:cNvSpPr/>
          <p:nvPr/>
        </p:nvSpPr>
        <p:spPr>
          <a:xfrm>
            <a:off x="2057400" y="1143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ondos mut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52280" y="24080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oducto que le permite invertir en muchos inversores y productos de inversió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Horizontal Scroll 5" descr=""/>
          <p:cNvPicPr/>
          <p:nvPr/>
        </p:nvPicPr>
        <p:blipFill>
          <a:blip r:embed="rId1"/>
          <a:stretch/>
        </p:blipFill>
        <p:spPr>
          <a:xfrm>
            <a:off x="506520" y="774720"/>
            <a:ext cx="8057880" cy="1657440"/>
          </a:xfrm>
          <a:prstGeom prst="rect">
            <a:avLst/>
          </a:prstGeom>
          <a:ln w="0">
            <a:noFill/>
          </a:ln>
        </p:spPr>
      </p:pic>
      <p:sp>
        <p:nvSpPr>
          <p:cNvPr id="271" name="Notched Right Arrow 8"/>
          <p:cNvSpPr/>
          <p:nvPr/>
        </p:nvSpPr>
        <p:spPr>
          <a:xfrm rot="19931400">
            <a:off x="26640" y="18493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4"/>
          <p:cNvSpPr/>
          <p:nvPr/>
        </p:nvSpPr>
        <p:spPr>
          <a:xfrm>
            <a:off x="4724280" y="1143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versiones de jub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5"/>
          <p:cNvSpPr/>
          <p:nvPr/>
        </p:nvSpPr>
        <p:spPr>
          <a:xfrm>
            <a:off x="3886200" y="16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ítulos del Tesoro de EE.U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6"/>
          <p:cNvSpPr/>
          <p:nvPr/>
        </p:nvSpPr>
        <p:spPr>
          <a:xfrm>
            <a:off x="1828800" y="1600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7"/>
          <p:cNvSpPr/>
          <p:nvPr/>
        </p:nvSpPr>
        <p:spPr>
          <a:xfrm>
            <a:off x="76212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8"/>
          <p:cNvSpPr/>
          <p:nvPr/>
        </p:nvSpPr>
        <p:spPr>
          <a:xfrm>
            <a:off x="2057400" y="1143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ondos mut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onos de ahor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2949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onos 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Se compran a su valor nomi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onos 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Normalmente se compran a la mitad de su valor nomi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4" descr="$500 EE Savings bond"/>
          <p:cNvPicPr/>
          <p:nvPr/>
        </p:nvPicPr>
        <p:blipFill>
          <a:blip r:embed="rId1"/>
          <a:stretch/>
        </p:blipFill>
        <p:spPr>
          <a:xfrm>
            <a:off x="2438280" y="3429000"/>
            <a:ext cx="4343400" cy="1889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80" name="TextBox 5"/>
          <p:cNvSpPr/>
          <p:nvPr/>
        </p:nvSpPr>
        <p:spPr>
          <a:xfrm>
            <a:off x="3655440" y="5410080"/>
            <a:ext cx="23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e4e"/>
                </a:solidFill>
                <a:latin typeface="Helvetica Neue"/>
              </a:rPr>
              <a:t>Ejemplo de Bono 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ítulos del Tesoro de EE.UU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066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bligaciones del Tesoro (T bill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garés del Tesoro (T not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ítulos del Tesoro Protegidos contra  la Inflación (TIP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onos del Tesoro (T bon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on seguros porque están respaldados por el Gobierno de EE.U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onos corpora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éstamos a corporaciones durante un cierto periodo de tiempo/plazo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corporación se compromete a devolver el monto de dinero que usted le presta en una fecha específic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ci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987480"/>
            <a:ext cx="68580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st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 propietario de una participación/parte de la compañ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odría recibir dividendos si la compañía tiene gananc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valor de su inversión cambia (sube o baja) según la bolsa de valor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2" descr="Up and down arrow representing the fluctuation of stocks"/>
          <p:cNvPicPr/>
          <p:nvPr/>
        </p:nvPicPr>
        <p:blipFill>
          <a:blip r:embed="rId1"/>
          <a:stretch/>
        </p:blipFill>
        <p:spPr>
          <a:xfrm>
            <a:off x="7010280" y="990720"/>
            <a:ext cx="1739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Fondos mutu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33160" y="121932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 producto qu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bina dinero de muchos invers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cluye acciones y bon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uede pagar dividen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mbia en valor con la bolsa de val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Diversifique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istribuya su riesgo de pérdida entre muchas opciones de inversión y ahorr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987120"/>
            <a:ext cx="822960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xplicar por qué es importante ahorr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tablecer objetivos para ahorrar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icar opciones de ahor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qué opciones de ahorro le ayudarán a alcanzar sus objetivos de ahor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onocer cuáles de las opciones de inversión son apropiadas para u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umerar maneras de ahorrar para la jubil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umerar maneras de ahorrar para grandes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3" descr="Arrow in target bulls eye"/>
          <p:cNvPicPr/>
          <p:nvPr/>
        </p:nvPicPr>
        <p:blipFill>
          <a:blip r:embed="rId1"/>
          <a:stretch/>
        </p:blipFill>
        <p:spPr>
          <a:xfrm>
            <a:off x="7924680" y="304920"/>
            <a:ext cx="1143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uentas de Jubilación Individuales (IR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98712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odrían incluir una combinación de productos de invers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tán libres de impue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luctúan con el mercado de valor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luyen IRA tradicionales y Ro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2" descr="Road signs saying &quot;To,&quot; &quot;Retirement 401K,&quot; &quot;Invest Wisely&quot;"/>
          <p:cNvPicPr/>
          <p:nvPr/>
        </p:nvPicPr>
        <p:blipFill>
          <a:blip r:embed="rId1"/>
          <a:stretch/>
        </p:blipFill>
        <p:spPr>
          <a:xfrm>
            <a:off x="7529400" y="2286000"/>
            <a:ext cx="115740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lanes 401(k) y 403(b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987120"/>
            <a:ext cx="83818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401(k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tablecidos por un empleado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ted designa un porcentaje de su salario a retirar antes de pagar impuest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empleador podría ofrecer la equiparación de contribuc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403(b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frecidos a empleados de escuelas públicas y ciertas organizaciones exentas de impue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2" descr="Egg with 401K written on it"/>
          <p:cNvPicPr/>
          <p:nvPr/>
        </p:nvPicPr>
        <p:blipFill>
          <a:blip r:embed="rId1"/>
          <a:stretch/>
        </p:blipFill>
        <p:spPr>
          <a:xfrm>
            <a:off x="7439040" y="380880"/>
            <a:ext cx="131760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nualidades variab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98712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Un seguro contratado que invierte su prima en varias inversiones similares a los fondos mutu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s anualidades variables pueden tener muchos costos, que incluye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Altos costos anu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argos de rescate sobre retiros prematur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El pago de impuestos por retiros anticipados antes de 59 años y medio de ed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s de garantía de beneficio en vi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ómo elegir la mejor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6840" y="987120"/>
            <a:ext cx="716292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veriguar todo lo que pue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sidere por cuánto tiempo planea mantener su dinero inverti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iversifiq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valuar periódicamente sus produc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su tolerancia al riesg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2" descr="Man looking at financial section of newspaper"/>
          <p:cNvPicPr/>
          <p:nvPr/>
        </p:nvPicPr>
        <p:blipFill>
          <a:blip r:embed="rId1"/>
          <a:stretch/>
        </p:blipFill>
        <p:spPr>
          <a:xfrm>
            <a:off x="6934320" y="2971800"/>
            <a:ext cx="152388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ras inversi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r propietario de una cas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alor de la casa       = $25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Menos la deuda       = $20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apital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               =   $5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r propietario de un negoci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3" descr="House"/>
          <p:cNvPicPr/>
          <p:nvPr/>
        </p:nvPicPr>
        <p:blipFill>
          <a:blip r:embed="rId1"/>
          <a:stretch/>
        </p:blipFill>
        <p:spPr>
          <a:xfrm>
            <a:off x="6095880" y="380880"/>
            <a:ext cx="2819520" cy="1476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horrar para la jubil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6840" y="987120"/>
            <a:ext cx="79246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proveche al máximo los cheques de sueldo que le quedan hasta la jubil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ente reducir o eliminar deud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tablezca un plan para su dinero le alcance durante toda su jubil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Picture 6" descr="Couple sitting on a bench at the beach"/>
          <p:cNvPicPr/>
          <p:nvPr/>
        </p:nvPicPr>
        <p:blipFill>
          <a:blip r:embed="rId1"/>
          <a:stretch/>
        </p:blipFill>
        <p:spPr>
          <a:xfrm>
            <a:off x="6705720" y="4253040"/>
            <a:ext cx="194148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Factores decis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o dinero quiere ahorrar con el tiemp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Durante cuánto tiempo puede tener invertido su diner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ómo se siente con respecto a poner su dinero en riesg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2: Plan de acción de Páguese Usted Prime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2 en la Guía para los Participant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10440" indent="-509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qué factores podrían afectar su toma de decisiones para ahorr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10440" indent="-509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qué acciones a corto y a largo plazo puede realizar para ahorr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preguntas adicionales tiene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han aprendi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ómo evaluarían el curso de capacitació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987480"/>
            <a:ext cx="82296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n aprendid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 que significa pagarse a usted mismo y cómo se puede beneficiar al hacer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nsejos para ayudarlo a ahorrar má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ómo incrementa el dinero con intereses compue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arias opciones de inversión y ahor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ómo decidir qué opciones de inversión y ahorro son mejores para u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 o quiere aprender acerca de cómo ahorrar diner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águese Usted Prime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987480"/>
            <a:ext cx="822960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significa “pagarse usted primero”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oner dinero en sus ahorros antes de pagar sus factu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Por qué creen que deberían ahorrar dinero antes de pagar sus factura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les son algunas de las cosas para las que tal vez quiera ahorrar diner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4" descr="Glass piggy bank filled with change"/>
          <p:cNvPicPr/>
          <p:nvPr/>
        </p:nvPicPr>
        <p:blipFill>
          <a:blip r:embed="rId1"/>
          <a:stretch/>
        </p:blipFill>
        <p:spPr>
          <a:xfrm>
            <a:off x="914400" y="4876920"/>
            <a:ext cx="1625760" cy="1218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3818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1: Hoja de trabajo de Páguese Usted Prime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primera parte de la Actividad 1 en la Guía para los Participant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00640" indent="-478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iense en sus objetivos de ahorro y el monto que necesita ahorr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00640" indent="-478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mplimente la primera parte de la hoja de trabajo, “Mis objetivos de ahorro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1: Hoja de trabajo de Páguese Usted Prime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987120"/>
            <a:ext cx="822960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segunda parte de la Actividad 1 en la Guía para los Participant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iense en los consejos para ahorrar que acaba de aprend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mplimente la segunda parte de la hoja de trabajo, “Estrategias para ahorrar para mis objetivos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tere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987480"/>
            <a:ext cx="65530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El interés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a suma de dinero que las instituciones financieras le pagan por depositar su dinero con ello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expresa como un porcenta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calcula en función del dinero que tiene en su cu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2" descr="Flow of people and money in and out of bank"/>
          <p:cNvPicPr/>
          <p:nvPr/>
        </p:nvPicPr>
        <p:blipFill>
          <a:blip r:embed="rId1"/>
          <a:stretch/>
        </p:blipFill>
        <p:spPr>
          <a:xfrm>
            <a:off x="7315200" y="1905120"/>
            <a:ext cx="1603440" cy="2663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tereses compue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ana dinero e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interés pagado anterior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dinero en su cu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interés se puede capitaliza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iaria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ensual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ual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6" descr="Calendar and cash"/>
          <p:cNvPicPr/>
          <p:nvPr/>
        </p:nvPicPr>
        <p:blipFill>
          <a:blip r:embed="rId1"/>
          <a:stretch/>
        </p:blipFill>
        <p:spPr>
          <a:xfrm>
            <a:off x="6629400" y="1523880"/>
            <a:ext cx="2179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4:57Z</dcterms:created>
  <dc:creator/>
  <dc:description/>
  <dc:language>en-US</dc:language>
  <cp:lastModifiedBy> NTI</cp:lastModifiedBy>
  <dcterms:modified xsi:type="dcterms:W3CDTF">2011-03-09T20:22:31Z</dcterms:modified>
  <cp:revision>18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